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6660-C930-4BB4-8F3C-B9F75C23C94B}" type="datetime">
              <a:rPr b="0" lang="fr-FR" sz="1200" spc="-1" strike="noStrike">
                <a:solidFill>
                  <a:srgbClr val="000000"/>
                </a:solidFill>
                <a:latin typeface="Calibri"/>
              </a:rPr>
              <a:t>31/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1486-4343-4788-AE4E-B4BE34F6CCFF}"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B140-A9D6-4270-9BEE-B22DA19CCF3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ABFA-FB74-4B8B-82AF-606BD5F5AED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B5ED8-34BC-4A62-85F1-7739824CF1D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55403-8BA8-4631-A112-76DE162DEDF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C7CF0-B993-4D41-9E99-F81A8CBD584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F7F3-777B-477E-9A19-A89968720BC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8EF1-1F0B-4BE2-8C76-69A0F39306F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42AD-445E-4CC0-94F1-42B61CC92E5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D045-07E2-48CA-BD15-87F8B1F38C5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C7FA5-C681-432D-897C-77A3AC9B6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BFB46-9CB6-4E02-85DC-3C7A7B055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9AD05-4AB9-445B-BA8F-C0F55D776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516DB-1457-451B-9823-F2D650186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94543-798B-43A4-BB24-FF63F3BD0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9D80B-9696-4047-B23F-FC3F618C2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57CBC-668A-4ABF-AAF5-439920702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A2AE6-C65A-461A-B88A-3BF454A7D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EA5D0-4E15-4009-A5D7-4D335E4BE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2C793-BEBE-4714-8ADD-AB5C1A17B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12833-A43F-4E7B-97FC-8A2C8A253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F8730-B4DE-43F4-9854-8845CE397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B503F-4413-4A02-A5A4-011574069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4182C-867A-4D84-BB9D-9E555E4F7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D050F-ECC5-44D7-9DA0-7602ACA81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90216-159A-4333-86E4-3008133026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3A0D41-D902-4E20-8108-F5F227E50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F476AB-4F84-428C-B1E4-8275F33E1C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08064A-33B1-4C48-98AA-01740BFBE6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E3A679-1F38-4A04-B4EB-0E0213938B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100477-B3CC-429A-BBA3-B398D875E9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D2DA15-C9B6-4852-ACD3-34C2E8322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5B57F-517F-44A7-BAAE-2B04A2730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8C4D71-B31E-4F7B-BF54-68F8121E1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AFB09-E31E-4FE8-A92B-207A4AB048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7D5BC-0A71-43FE-A430-A083AA940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21369A-9DD1-43F2-AE07-C41539291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C611DC-4AD0-4741-B686-8DBA65007D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B8EC2D-C403-4D16-AAEF-9253D883FF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5E75CD-0D8C-4BD9-9240-0C8EA69A70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118C11-F19A-4278-8390-775EAAA9D3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7FD29A-EFB4-4B53-913A-523F9CC837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9B173-3B8F-42A4-AC87-277D2CA7A5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B18CE-51B4-40A6-AEFC-4C365D02F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1C79F9-3270-4946-AD37-B6D4B24C50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9391D4-76B7-498B-96BC-118BFA792E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ED8271-F3C6-4451-8AB2-75C6E24EDF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09A7D-9DC7-4F76-A5EC-8B548B647D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EC8AC-E084-42AA-9A4D-CCBFC0270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73B783-8BA8-465D-A685-A2A2B44F5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564F5C-803D-4AED-887A-BC2C3420AD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E75E0B-8150-4BE5-AC7F-231BA4C4E6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1CC8AA-F2E7-4F37-884F-3A4A429CEB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D47778-451F-4410-9922-49642C087A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0567A-2571-48FF-BD44-52C729A18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BBF09B-DD44-471F-B3CF-600D334E46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09D82B-438F-442B-9921-352FD64FEE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098646-1E8B-4107-82AE-F58B046A4F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A65B9C-CE18-49A1-80BB-E9A93723FD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D7C2D7-F80C-4770-A6FF-B1466202F1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CA3DD7-CA6E-40EC-9D6E-C7FED80D78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554605-DFA0-4B2A-9733-6EC1658269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B3CF4F-6544-4CCD-B968-AB87FFD025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F02D91-BB19-4E9D-AEC6-4688BA6EA1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BAE839-479E-41B9-A101-4655B5ABFD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457BF-983C-4914-AC6C-79A680A73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C297A6-D0B1-4478-ADB0-D5BED4EF77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8DC909-48EE-4B86-B232-1B75C47F41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64A981-4DC8-4C18-BFDE-9757430083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1832CD-A866-4164-9236-D207FD361B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049FD5-AD20-499C-9551-0950FEC171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1A2F00-F8A4-4E32-BD1D-684C7B78CE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406A1B-7C6B-4610-B82E-9BA482FAF6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E573D1-A6D1-4BCD-BDDD-87AE19C5DF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2729B2-6C4C-4E0D-94BF-A4897F4ED3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017019-638B-458A-A1A9-FB61C4ECCE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E78DC-CC75-4393-A78E-2CF1C33F5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7D2E8C-02B2-47AF-8941-149CD68404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059031-97D6-4181-B52D-E30CAB8980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B0A8A8-7EB3-477E-A190-E3295D3107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0AD0C3-EDA0-4D42-8206-F55A7765BF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5B4DDB-AE14-4E1A-B94B-E952AA27B4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EE4525-E608-4616-B241-16CD794027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F4E9EE-5FCB-4115-B6D4-1A251B1A13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4195B1-CE6F-411F-BB33-8B89EEBC75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E9A942-7F7E-4835-9334-C89169BF6A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EBDB65-45D8-451D-88E7-D5CF6C3280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C98D4-A6B8-45B1-9555-158FD208B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1891E3-7D42-41B2-A4E5-BFA4F14108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080589-4D04-4F18-A6A3-A2AB0E0A87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5415C6-DE71-4CC6-845C-42A8174985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B22B47-C875-43AA-88A4-1E2DD9CEB0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7621E4-6674-4DD2-88A1-5A047BF4C9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EDA62A-CDBE-455C-8C1B-DFB67DDE2C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8F6A22-3A8F-450C-B56E-A0C5600C69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BDBEEB-8B96-4DF9-81E0-7A73BA497F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A45B7E-9E90-410A-A882-96BE48C32D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446B9A-668B-4EF2-B6C1-31782B90BA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61272-DCA6-4028-BC64-3CFB6A907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28C2C7-9CE2-40A3-ABFA-112227BF24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6BECD1-30B9-4803-8E24-EDD4DA9FCD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F02F58-FA2D-484D-9E88-EC222769E7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EE60E1-AA0C-4CF3-8C61-B0C479CFB5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6B9DD0-6D56-4B3D-98CB-3F52992B78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D48325-1721-4A17-8F39-BF9C5AF551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082FA3-677A-4C0A-920A-2685C926A84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D471-3B07-4CCA-BCFD-1625A5F071B1}"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92FB-752E-433D-A599-86573CB26B5C}"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8608-B3B9-4CA0-906C-8D59CD16421D}"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7152E-B1EF-4608-91E2-133D0A1F9624}"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EF07-E05C-45B7-A172-2D67A5CEEC69}"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224F-4872-48E0-8057-5D47142F5916}"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5DCA-F37C-4D82-83F5-BB8F7988517B}"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97EA-E552-41CE-A306-378811A62AAB}"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8BAB-83E8-461B-9040-6CEA76B75199}"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FE46-CC05-4149-B314-112C2708CDF6}"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F9BD-7C60-47A3-8B22-4DF2C82F5DFB}"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68E5-FDAB-49F5-858E-0A004EEC4D14}"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1E96-8F9D-4F43-A09D-8172F662312C}"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9CE2-975F-439E-B5E9-0A97F9A10694}"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3C89-F9BA-4280-8BD8-BB2D807E10B4}"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242A-0500-4894-948C-B1D5CFA03075}"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C190-DC81-49F6-893F-2AA572556C13}"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9B55-C67F-4657-B413-B5AFEDDE087F}"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8AB4-6376-4C5D-BD3A-25A935DC7DA3}"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CEA4-41B1-47DA-A2C8-3B4D5EC5D587}"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4757-D31C-4410-9C45-B81021A2177E}"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1F3C-5F27-4B49-84CE-7B2C096B270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AA6A-E045-41A0-A14A-D2257958879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FDAB-CB23-497C-A2A0-00C0707A202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DCEA-DF64-4943-97DB-453E81678336}"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2D67-D70A-437E-8D59-BD077A442C4F}"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